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38A6-F0F2-4E14-BF2B-A99A8E2C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7D8A-9DB4-49D8-AA31-203334E9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58F-3599-4281-A57C-57835194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E72-10B0-47B3-9D5E-BECE87AF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3F6E-AB42-45BA-BC7C-915C2419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1E8-6BEC-461C-9CAA-D47FF146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F38-F95E-48FF-88A1-335DC206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935-42BF-4405-85BB-55BBA290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1170-2855-433A-B644-9E40042E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949A-BA9F-42F6-B731-7B1CD1D9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DF1-47DA-4B8C-B811-CA7A1E6F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999-9D49-4A7F-9E0A-181460EA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0B92-686E-4FBE-B308-A44E1C05C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lenco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             Clase 802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2 de abril del 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68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viste en la tele ay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L.o: to review the preterite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 los verbos en el Preteri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b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Copia y responde, usa P.O.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Miraste la tele anoc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Tocaste el pia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Escuchaste mus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Estudiaste españ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Usaste tu computado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Enviaste e-mai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icicio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2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Answer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aragraph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dditional pract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lenco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PassCode: ASD4003c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mmar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terito de los verbos –er, –ir e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57200" y="1981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20:11:34Z</dcterms:created>
  <dc:creator>Helen Zumaeta</dc:creator>
  <dc:description/>
  <dc:language>en-US</dc:language>
  <cp:lastModifiedBy>Helen Zumaeta</cp:lastModifiedBy>
  <dcterms:modified xsi:type="dcterms:W3CDTF">2016-04-12T17:43:28Z</dcterms:modified>
  <cp:revision>11</cp:revision>
  <dc:subject/>
  <dc:title>Me llamo _________              Clase 8im La fecha es el 13 de diciembre del 2012</dc:title>
</cp:coreProperties>
</file>